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5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96560-E5DC-463F-9001-451466982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F05C6-30BA-48E5-879A-8D96FA6891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2F5D5-17C1-4A2E-8C45-27E38B5E7F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CE28E-950C-464D-9D42-C970738994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9A8ED-5ACE-49B6-B9C0-0AAD078FD1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777EE-B8EB-4EF4-81E4-C85CA0CD21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6467E-F2E4-4BC1-9661-9ADF282E71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FC3CF-9648-48A9-A086-D375CDB1EC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0100E-69CA-4EB7-A47E-FDAEA8A8A8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DA537-7DBC-45A5-A1F1-037A22F2C6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C7ED5-797E-4DDE-ADB6-D293AC924D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02F0E-F54D-4776-86B6-F083749519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653E8-CAF7-4023-BBE3-8FC3EAB045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DF7DF-2895-410E-A3EF-B5A2CE7B87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59DCA-7BEE-4EF5-847C-8CF6C618F8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1CDB8-74AC-45C5-B2B2-9672B85BBE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11930-0ADB-4CB2-9FF1-451F1BD559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15B3D-646E-4083-B7F0-5A2995CE33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27B90-1D36-460C-96D1-662D83BE4F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54D18-7052-4B31-8FD6-8119BC8424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3D911-29AD-4D83-B192-DCE3EDC74F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9C944-8068-4CCA-8A0A-B9128374AC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DC16E-6D9F-423E-9703-88106EBF9D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878D8-A466-4D6C-9B3F-49CF3060A4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A8F18-31F9-42B1-9A74-D017BC29BE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7BC98-99C5-4DFE-A80A-981503A469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26CE3-42BE-4BCD-BBAC-6C1F60E6D8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85DF4-43DA-46ED-9A8F-993C3F1783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F0951-C007-4F2C-A4B6-C8C02812AC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AB273-87EB-4484-AD26-BA380755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AC5EE-C79E-428B-B6A6-BF9427BD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ADCF6-BE12-4145-B427-7504BDF40E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9C826-510D-4121-B202-686D7AB903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EDBBA-C92C-4283-AC83-3B8B4AE2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B7C26-ADEB-4D2A-98F9-116B51E2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8392B-58F8-4687-AF02-1C01AF35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974FF-AF5F-4BE6-B46C-5A6E7D4C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CC9F6-11DA-4E1C-82D3-D52082D2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E8E63-2590-4846-9B09-87682B2E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F6D66-BDB0-4967-956D-5EF5B57D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FCB72-D647-4A9B-B3E3-0E1967A1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A04B7-D7D3-45E9-9BA7-5AF5DA18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6C800-F261-4B06-94CB-6DB00BD1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F26F5-C8E3-4845-B66B-DCFF8DCE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4F732-4D9B-4453-B5CD-9BA62ACABB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E4DDF-1DFD-4E13-B675-FBA03849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28E8C-E1E0-4BC9-B2B9-E308EA71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D940E-828D-403C-9715-44599DD5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BEA49-1BF5-4DFC-A29D-4AB3D4C7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33CB0-096F-4BBC-B79D-999CE617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D0654-93AF-4739-8138-1DCAA11C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C2E02-142C-4831-87D7-407B03F1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/29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7E256-325D-4260-BCB1-788577C2F4D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/29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85C80-BBC5-45DF-A1AA-49A3E93CDB1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ПЕЦИФИЧНОСТИ СЕСТРИНСКЕ АНАМНЕЗ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 НЕГЕ У ПЕДИЈАТРИЈ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792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RS" sz="3600" spc="-1" strike="noStrike">
                <a:solidFill>
                  <a:srgbClr val="7030a0"/>
                </a:solidFill>
                <a:latin typeface="Arial"/>
              </a:rPr>
              <a:t>Проф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sr-RS" sz="3600" spc="-1" strike="noStrike">
                <a:solidFill>
                  <a:srgbClr val="7030a0"/>
                </a:solidFill>
                <a:latin typeface="Arial"/>
              </a:rPr>
              <a:t>д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р Гордана Костић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ИЧНА АНАМНЕ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457200" y="1600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РОЂА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 ли је дет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ођено на вре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код куће или 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родилишт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уз стручну помоћ или без њ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родним путем и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tio Cesarе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акуум , фоцепс,  који је предњачећи део тела код рођених вагиналним пут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ужина трајања порођа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када је прекинут водењ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 ли је дет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мах заплакал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продисало или је морало бити оживљава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gar Scoр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оцена  од 0-1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лесна маса и дужи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рођењу, обим глав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ИЧНА АНАМНЕ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049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1000"/>
          </a:bodyPr>
          <a:p>
            <a:pPr marL="312120" indent="-31068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НИ ПОСТНАТАЛНИ ПЕРИ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068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ви подо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068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 је сис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068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ва столицa (пoјаva меконијум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068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ЦГ вакцина и вакцина против Hepatitisa B (HB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068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aдa је отпao пуpчани патрљa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068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 ли имa  повраћa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068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aкве су столиц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068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ње коже ( pemfigus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НАМНЕЗА ИСХРАН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7000"/>
          </a:bodyPr>
          <a:p>
            <a:pPr marL="589680" indent="-58968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АМНЕЗА ИСХРА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9680" indent="-58968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род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9680" indent="-58968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оврс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9680" indent="-58968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штач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9680" indent="-58968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 када се дају и у којој количини витамини, воћни сокови, жуманце, месо, поврће, воће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9680" indent="-58968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ав апетит има дете и да ли постоји неподношљивост неке хране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9680" indent="-58968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јава екц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СИХОМОТОРНИ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304920" y="99072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3000"/>
          </a:bodyPr>
          <a:p>
            <a:pPr marL="284400" indent="-28332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СИХОМОТОРНИ РАЗВОЈ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332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да је почело да с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ме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прати погледом, гуч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332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же главу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ди, стоји, пу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о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332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ви зуби, прве реч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332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ређењ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 развојем брата, сестре, родитељ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332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 када контролиш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крење и дефекациј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332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ки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ли  неуобичајени рас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332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азак у школу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спе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332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руштве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однос са осталом децом, наклонос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332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исност од родите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332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ахов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МУНИЗА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0" y="685800"/>
            <a:ext cx="8610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8000"/>
          </a:bodyPr>
          <a:p>
            <a:pPr marL="474120" indent="-47412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УНИЗАЦИЈА И ПРОБ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C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(против туберкулоз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B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(hepatitis B вакци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TeP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против - дифтерија,тетанус,пертусис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P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(орална полио вакцина против-полиомијелити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( против  Haemophilusa influenzae тип B)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M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(против - морбиле, паротитис, рубеле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пнеумококна вакци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и код нас али нија обавез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вариолич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у развијеним земљама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вакцинаци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ање сер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ОДИЧНА АНАМНЕ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РОДИЧНА АНАМНЕ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рост родите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њихов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дравствено ст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ним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нос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породици, здравствено стањ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раће и сеста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ртворођ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еца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онтани абортус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зрок смр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ланова породице и доба стар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ституционал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ледне боле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дијабетес мелитус, епилепсија, конвулзије, ТБ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ергије, респираторне болести, срчане ма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ВИКЕ ДЕТЕ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7000"/>
          </a:bodyPr>
          <a:p>
            <a:pPr marL="298440" indent="-29700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ВИКЕ ДЕТЕ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700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пети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700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700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ћни страхов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700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ћно мокрењ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700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сање палц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700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ижење ноктиј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700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ков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700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ливи гне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ЦИЈАЛНО СТАМБЕНЕ ПРИЛИ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45720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8000"/>
          </a:bodyPr>
          <a:p>
            <a:pPr marL="595800" indent="-59580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ИЈАЛНО СТАМБЕНЕ ПРИЛИ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5800" indent="-59580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мбени услов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загревање стана,појава влаге, буђи, температура просторија, постељ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5800" indent="-59580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ућни љубимц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пас,мачка,заморац, папагај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5800" indent="-59580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шење цигарета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кући (марочито мајке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5800" indent="-59580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ува де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да родитељи ра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5800" indent="-59580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ет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етета у спољну среди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5800" indent="-59580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јалне прил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ЕПИДЕМИОЛОШКЕ ПРИЛИ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ПИДЕМИОЛОШКЕ ПРИЛИ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ична обољења у породици, шко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утовањ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ет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јем гостију са сличним болест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естринска не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3049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8000"/>
          </a:bodyPr>
          <a:p>
            <a:pPr marL="267480" indent="-26640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кумен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640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пање, облачен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640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вљање у постел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640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рење телесне температуре,ТМ,Т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640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ој респир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640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Т  СаО2 (пулсна оксиметр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640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чана фреквенца, ТА ( тенз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640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лучев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640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зимање лабораторијских нал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640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вање терап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НАМНЕ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Анамнез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у ПЕДИЈАТРИЈИ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итно доприноси постављањ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чне дијагноз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мнестичке податке дају најчешће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одитељ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ли лица која се о детет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арај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хетероанамне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арија дец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гу дати мање или више податке о својој болести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аутоанамне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мнеза мора бит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етаљ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а јасно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ронологијо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их важних подата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стринска не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8000"/>
          </a:bodyPr>
          <a:p>
            <a:pPr marL="335880" indent="-33480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ЕБНА ДИЈАГНОСТИКА И 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480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пирометрија (БДТ-бронходилатацијски  и БПТ-бронхопровокативни тест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480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лерго тест (СПТ: скин-прицк те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480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480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480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ГТ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480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тезивна нега ( рад на МВ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PRAESE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3049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7000"/>
          </a:bodyPr>
          <a:p>
            <a:pPr marL="298440" indent="-297000">
              <a:lnSpc>
                <a:spcPct val="8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ПШТЕ ТЕЛЕСНЕ ОСОБ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7000">
              <a:lnSpc>
                <a:spcPct val="8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7000">
              <a:lnSpc>
                <a:spcPct val="8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рос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7000">
              <a:lnSpc>
                <a:spcPct val="8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сихичко стање, сензоријум (расположење, заинтересованост за околину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7000">
              <a:lnSpc>
                <a:spcPct val="8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во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7000">
              <a:lnSpc>
                <a:spcPct val="8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т, развијеност, конституција, телесна дужина (висина), телесна маса, ухрањенос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7000">
              <a:lnSpc>
                <a:spcPct val="8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ожај тела, ход, кретањ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7000">
              <a:lnSpc>
                <a:spcPct val="8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жа, лимфне жлезд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7000">
              <a:lnSpc>
                <a:spcPct val="8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есна температур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7000">
              <a:lnSpc>
                <a:spcPct val="8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тисак о стању болесника (лак, тежак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ЖА, СЛУЗОКОЖЕ И ПОТКОЖНО ТКИ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3049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Ж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ја, температура, влажност, еластичност, тургор свих ткива, ожиљци, ефлоресценција, дермографизам, локални и општи ед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ДЉИВЕ СЛУЗОКОЖ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коњуктивалне и букал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ТКОЖНО МАСНО ТКИ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поред, редукциј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трбух, труп, екстремитети, лице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вије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мерити дебљину кожног набор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PRAESE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4000"/>
          </a:bodyPr>
          <a:p>
            <a:pPr marL="322200" indent="-32112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ТКОЖНЕ ЛИМФНЕ ЖЛЕЗ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112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ципиталне, вратне, субклавикуларне, аксиларне, ингвинал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112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редити величину, број, покретљивост у односу на кожу, међусобно и у односу на подлогу, осетљивост и локалну температуру,боја коже изнад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112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УСКУЛАТУ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развијеност и тонус (испитивати на м.бицепсу и м.трицепсу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112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СТУ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општи развој костура, деформитети, зглобови (покретљивост, фрактур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ЛА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9000"/>
          </a:bodyPr>
          <a:p>
            <a:pPr marL="305280" indent="-30384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конфигурација, величина у односу на тело и узраст, обим главе, задебљања, фонтанела, краниотабес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384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дужина, квалитет, боја, алопе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384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УЛБУС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покретљивост, страбизам, размак очиј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384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ЕНИ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облик, величина, реакција на светлост и акомодациј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384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С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лик, корен носа, секреција, страни садржај, лепршање носних кр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384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Х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облик аурикуле, усађеност, спољни ушни канал и садржај у њему, осетљивост трагуса и пр.мастоидеуса на притис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PRAESE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4000"/>
          </a:bodyPr>
          <a:p>
            <a:pPr marL="322200" indent="-32112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Р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облик, покретљивост, гл.тхyроиде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112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РУДНИ КО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обим, облик, неправилност, рахитичне промене (бројанице, Харисонова бразд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112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ЛМ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тип дисања, број респирација, палпација, перкусија, аускултациј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112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О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инспекција, палпација, перкусија (границе срца), аускултација (тонови, акција, шумови), пулс (квалитет, пуњеност, број), крвни притиса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112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БДОМ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обим трбуха, инспекција (венски цртеж, хернија), палпација (акутни абдомен, резистенција, тумори, дефанс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PRAESE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ЈЕТРА И СЛЕЗ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величина, рубови конзистенција, осетљиво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НИТАЛ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стање скроталних јама, спуштеност тестиса, величина пениса, фимоза, локална запаљења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КСТРЕМИТЕ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покретљивост, осетљивост, малформације, акроцијаноза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PRAESE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УРОЛОШКИ ПРЕГЛЕД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итивни рефлекси (перзистенција), тетивни рефлекси, патолошки рефлекси и клонус, преглед по кранијалним нерв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НА ДУП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уснице, букална слузокожа, језик, зуби (број, стање, каријес), непчани лукови, крајници, ждр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НАМНЕ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узимању података неопходно је стећ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верењ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дитељ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лесни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болесног дете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опходно је показат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азумев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сников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гобе и пат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треба одмах инсистирати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итањ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оја 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азивала осећај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ида, кривице и одгов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и треба дозволити ономе ко даје анамнести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атке да о овим проблемима гово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НАМНЕ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дитељи (старатељи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сто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еопшир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убјектив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ичају о току болести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ецењујућ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оједине симптоме и увеличавајући патње свог де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када, пак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тцењу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ечје тегоб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пак, родитељи дају податке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сцрп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са најфинијим запажањима и пуно детаља из чега можемо сажети битне информације о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сто се каже да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вестан родитељ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је  боље податке 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савестног медицинског особљ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НАМНЕ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екад родитељи или они који су водили у том тренутку рачуна о детету , поједине симптоме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амерно прећу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ажно представ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ако је дете настрадало нечијом кривицом или немарношћу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ужни смо да поставимо 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опунска питањ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ја су усмерена на основну болес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рамо сазнати и шта се 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чења очекуј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д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мирим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збуђене родитељ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ЛАВНЕ ТЕГОБ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ГЛАВНЕ ТЕГОБ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Истаћи у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-3 речен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АМНЕЗА У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УРГЕНТНИМ СТАЊИМА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крварење, епилепсија, кома, страно тело, гушење, тровање, теже траум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рат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одмах зат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авити клинички преглед и дату ургентну терап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ДАШЊА БОЛЕ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АДАШЊА БОЛЕ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Када ј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ч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роноло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њене еволуције са свим знацима и симптомима, температура, губитак телесне масе, инфективни синдром, повраћање, пролив, дисање, кашаљ, цијаноза, едеми 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ва је би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дицинска нега и терап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о приј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ви с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карс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абораторијски и сви  други  преглед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чињени до приј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НИЈЕ БОЛЕ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3000"/>
          </a:bodyPr>
          <a:p>
            <a:pPr marL="318960" indent="-31752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РАНИЈЕ БОЛЕС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цидивантна обољ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разне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срећни случајев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ре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ер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ргијске манифестациј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ИЧНА АНАМНЕ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ИЧНА АНАМНЕ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НАТ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дослед рађања детета, ток трудноће,нарочито у прва 2-3 месеца,крвна група мајке,  инфекције мајке, узимање лекова, пушење у трудноћи,  крварења, трауме, исхрана, физичка активност, Рö прегледи, редовне лекарске контроле, абортуси.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c</dc:creator>
  <dc:description/>
  <dc:language>en-US</dc:language>
  <cp:lastModifiedBy>Pc</cp:lastModifiedBy>
  <dcterms:modified xsi:type="dcterms:W3CDTF">2021-02-09T23:55:38Z</dcterms:modified>
  <cp:revision>3</cp:revision>
  <dc:subject/>
  <dc:title>SPECIFIČNOSTI SESTRINSKE ANAMNEZE I NEGE U PEDIJATRIJI</dc:title>
</cp:coreProperties>
</file>